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D4C-85E5-4799-93C5-60489A0F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35B-056A-4852-8434-CBCE216A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F8E32-CCC7-45B4-A471-C8256703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B55D1-846B-41F9-870C-87574020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9CD04-9F26-4169-A313-F8D09F8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9E790-BF8C-4906-B840-580405F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D6A98-A90B-472A-A5BA-1677DE1D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F88D8-3965-4D72-B9FC-5FC719D9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FDF1-BD71-401A-9817-02CB6E69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BBBFF-F9E0-477C-83A9-239497AA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E7CFB-4DD2-42CF-9D08-2EE0BEBA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194F1-B746-4182-90BD-F519ED1F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753-0D66-4329-B9DA-B8707987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45B26-12E7-4935-9C56-93908D31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620FF-1AF1-4951-9FCE-6440140A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4C452-89BC-4D89-8AC9-D7E3CE64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544F1-5D7F-4DF2-898E-FADDC5B8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594E-AECE-4951-83C5-D5D1E731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DE4B6-4BC9-4AC2-8696-F654CF03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91325-39E1-4B57-8D59-5413956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FB00F-45D4-4C82-BAF2-B99C41FB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69721-F4C9-4C6E-B95E-7E2AFC8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D910D-F180-4038-9E50-AC1F5BE3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67F-3433-4436-943E-85937935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C5886-E0CB-4B9E-8E7F-9FD665D2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C7D20-1121-4FB0-87D3-ADC9A4E8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25F4-3244-4C8E-9AD5-052DBE3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0FB60-FCAD-4FF4-ADA7-1256EDAF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B0BC4-B8B4-484A-B33E-7352F151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010A2-4143-4EBF-B799-75DF5BCE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A434B-FD1D-4A44-91DC-0FB218B2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74389-79F4-4E12-A3B6-DDBEC3F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C00D4-377F-4AF4-8132-B274852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CB918-A006-490C-82F3-04D2506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DD94-4B03-4357-A7E6-4D26417E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5C016-267F-4AD7-9365-BF9556C8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CF7D8-3BA4-4309-8547-76F56BC4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001C9-C99D-4E01-8AF7-95FD4339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55D7D-ED36-415D-B42A-582D453E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1982F-A435-4037-A93E-EAA458C2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408B6-A714-427B-9055-0B1D3DE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E629B-41F5-44AB-B553-75C4EDD0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94811-A25C-4A45-B8D3-7C955DF3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514C1-E738-465D-9B42-14FD1969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6F26E-E4D9-43FA-82C8-A8A205F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4BD2-D1D2-4609-8261-A27B28EF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9A18D-AFDF-4F99-82A9-18E8F7E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7DB68-C299-487C-995A-A8E58D5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A6515-3E1F-4F38-9E8B-9A78A1BC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A9625-AEE0-487C-87CB-9D568C50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67C9E-5154-406A-8E39-311AB377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E861C-DCD7-42FB-A240-F6759294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FC3DE-1310-4044-B278-5462410D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10A3B-4CCB-4E1C-BC19-9853F0A0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EA4D3-C295-4996-9AF7-83070670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21966-4DCF-4914-8C5B-90E21240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2553-96F7-409F-AFEA-F7815F67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F63E4-D070-4CC1-8611-C642C879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83514-BB2A-4715-80B8-D179DF76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46162-A7BA-4D4D-87ED-BF340C1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94E73-0DE3-41AE-A2E0-49CDE94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9E275-CA70-4F98-9665-D004CD1D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76BFD-0FC9-41D7-AF03-312E57C6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897D3-24FF-483A-9B31-F098AC08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CE8D3-16D7-4A16-A283-B1881D20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01F0E-04F5-4059-AC06-AA899514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D5158-036E-4993-A88F-AFAB3E9B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5E7D-6E0F-4EC8-BE35-6027834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33187-541A-46CF-AF52-0AA709A2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51887-C451-4F27-8FB5-E7756E6F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D3988-B0BB-4103-8D9F-562B0593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0E4CA-D27C-4209-AD56-2561D26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338F5-656C-4CEF-971E-2BA0609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3DE11-C7EA-4AC9-BCC9-8B1FE239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B7FC3-5672-4127-9F9E-A960E23D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7BF19-5C7A-428A-8BC4-AB941C3D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522B0-274E-44B3-9560-CE723DF9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EC95A-9BC8-432A-B6F4-A28490EC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EE7C-1323-4196-8FD9-B92C4C2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252C5-F4FF-4934-BDB7-F43B451C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F45A3-AD1E-461B-B537-A3183190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C9069-6C83-4C67-A8BD-547C0058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05872-7747-4E65-B3E8-34EB50C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17843-CCEB-4E81-856D-2D9BB85E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EA926-4160-4F77-8069-537AD29A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3193B-E7F3-4AC3-927A-CA85BA2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A993C-FC23-4A23-BE53-AA97D9D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433D5-4590-49D7-BD15-A270F922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C4818-6373-476C-9B1C-F2B6FA4F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D893-19F6-411D-B319-D9C343AD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12D5A-C542-4C59-9DDF-4EC7B515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46519F-3D69-478D-AC56-81FBF0E9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EA7D8-F22B-4507-ABB6-D319B5E6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9D778-3F42-4F70-BEAE-BC6B756D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36340-4BA1-4603-9C75-9A58903E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7E531-4B26-409D-8330-05F1876E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83DC0-0B18-474A-850F-48468652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A2256-09AB-40EB-BD0B-0D050A7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724A5-5F1A-40DD-B11E-07FCA7D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7BF5E-7563-4EDA-9AFC-3CE3D11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BE4A-5BDF-476F-A743-4493B48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A5C30-04EA-4C6A-8118-A5BEE267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93642-4CF5-4039-956B-223DC393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38A61-9317-4A80-B1FE-6742E58C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EB2B5-47FB-4C07-8259-A26FBCD4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6A29A-6BEF-4A83-937A-5000E17F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33D88-29DD-416E-B690-AF1F004C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F60D3-C1D0-42EF-8304-7EEC3DF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85388-4BC4-43CA-A4F1-3779A9EE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0E283-87C6-4644-8408-96EF8B86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8C81B-4DFB-4CA1-BD34-1363E929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C95-5DED-4D30-B79F-87B04A3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AE0-4184-4719-A2AE-C020E34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30113-2E49-4434-A291-65632E9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62C57-98FB-4ED6-AF43-5964CBD9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E097C-AC87-4589-9F36-8D35B0EE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F7EDB-8699-4716-A475-5B71111F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5DCBD-056C-4FB2-829F-4533A66A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E6C-B2BB-40EB-9E8E-3E7B0419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920B-2C07-47D2-B56F-6C579A15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2678-E772-4097-824A-607B58CC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B773-C681-4B5F-A0DB-D865DD0D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0EAF-C974-4FC4-A293-87C88CE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BCF2-4B8E-43CE-A4F0-84171E18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6827-B196-4342-9754-581E694F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93E6-202D-42E7-A6A3-05636B98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BEA7-DEF1-4EDB-9B73-9F5E0E4C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362-4CEB-4C87-A056-B3A82831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7EF7-04BE-456F-91EF-F0D7D8FC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F8D7-949A-4129-9EA4-B7DC821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1A92-FC98-4BA3-B244-F16790B1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B8DD-AFB7-4C2B-89BE-E58964C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CDF6-3518-40FC-97CC-430E78CE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8024-245F-4D03-ADB4-841E5F47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8209-C68B-4E35-948B-E6978DCF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F55AE-2A0A-4543-B6E3-FAB6998A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1EB5-251F-4CB6-922E-F9B8F2EA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099F-F018-424A-9B67-10661B9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69C-E2A2-49AC-B894-B88B3E1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D34C-1297-4F28-A609-E409E80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C980-9F13-40B6-9806-59FA3D74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2487F-6F38-4A3F-BA2B-D5E2B77B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56A7F-7014-4B34-A414-3168F40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DF54-58BB-4450-BBC1-EE06AD6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3BF7-98CF-41A6-83D6-4B9FA3E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587A-5BEB-42EF-91E8-7BEE7088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923A-5C18-4DAC-93BD-84FB65E6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B219-ADB0-4BC3-B4E6-FE6F0B6E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BCEC-9AA9-4D89-AE5B-573DD8E9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EB3-9533-44B7-928A-C468C93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672B-534E-4E99-975D-277F081C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54B0-F97B-4476-A271-AFB2228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C91A-18A7-4821-9657-7C86831F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65B6-C600-4A19-B992-B9A5CADF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067F-5C06-4D10-86D1-DFDE39F3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2F11-4CA9-43CA-BCA5-3016050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8ED45-3735-4AC5-A03B-F4EF46B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45D9-9558-4132-ACE5-31A56AA0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0137-E8CF-42C6-86CA-FAAA3CCB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5926-2E37-4352-963B-F47F39B8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BF3-D4D6-4783-B7E7-3EBFC403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1913-8D4F-4CAB-9CBE-246B91A7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11DC-6274-43A8-919B-2A2C23F2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24058-2AC7-4BBB-ACEE-2794ABD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D72A-223D-4238-B342-7A365A9A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0149-60E4-48B6-8EC7-C820CC20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68DC-1F4E-4C0C-B67E-AEFB9C34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03A0-C6AA-42E9-9CBC-14C0375B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2908-F138-43AD-A60E-623EAED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DBB1D-8DFA-4530-B6AF-53E6E30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7D6CE-90F8-44F2-9093-0B71D938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3A1-D981-4287-8DD9-FE473552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51281-2C3E-409A-81E8-597DAA0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8BD3-0FCC-4479-BEE2-C4BAFA8F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FB22-F206-4FE6-84F5-CBABAD75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139A-A2C8-4CC3-A91B-08DB55B8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7762-2F28-4A76-AB7F-54BF756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4B11B-E929-40B1-A392-838F57A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48206-D0FF-4A59-851D-F4A8668E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DB9DF-A9B3-4275-8DC3-C6566BB7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0A82F-E96C-44EE-A6EE-A76D60A1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BC37-9460-49ED-B3E9-C650CF3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E50-C16F-4C26-9B6E-666ED32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B153-ED40-4E9E-82A0-9B6676C4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68693-2056-4BE8-ACF2-FA69EC80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3A6E3-5326-47C7-BC9C-09BA939A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2C639-9F79-4D2E-9853-C570407D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7662-4025-4EEA-9037-AC1207EB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BAFA-BC1B-4069-A522-C50AAC55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CBAC7-C4E3-4E08-B369-BC5D38CA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BCBFE-6C30-458A-802F-3061E16C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A9AE9-B643-4156-A974-1051DB2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6FF3B-1A82-4AE6-8A41-9BBB8FC4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178-27F3-4E96-8ACC-B5AD019B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1477B-1216-4121-BD6F-FE0F49D1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3B6DF-4F62-4F71-A0F1-4EA2BBAE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847B-2C33-4BAF-B144-AB0A4460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4233-F9A8-42FC-A748-80D0BB56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37791-D137-4B01-B5B6-E0547C5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CBCE6-8CBE-4A9D-9FDA-E8BF7075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E1395-853A-4108-92AC-16EAD00E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5EF47-E30E-4A9A-88A7-8C3678F8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EC080-6115-48D2-A6E7-47BE20F2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1B0F-0C00-4A67-9665-7C61C87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1FF84-FB82-4EB6-A888-BB70E4B8309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6694C-2845-4627-9306-B9BFE155A58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E8DEF-253C-4402-8B36-1386DAC2123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5FD3D-B884-4AC8-9EBB-64625568F4B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F8950-A3A1-4410-AB2D-FB73E92C2C2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DDBCF-5D7F-43C1-90C6-B53F181F0A5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AFE81-A3A7-4030-BF0F-BB3C44EF769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A17CE-80D9-46A0-BEDF-F04E6F330C8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2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6160" y="4280040"/>
              <a:ext cx="1599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360" y="428004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7497D-D471-4DEA-9037-D7805409D7E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2FB83-2824-40D9-91C9-93E100403FC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28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6160" y="461880"/>
              <a:ext cx="159984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360" y="461880"/>
              <a:ext cx="423360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939A4-CD7B-4780-AB28-4DCE2F15C58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9516A-DCD7-49BD-BE0D-16580DCACCF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B0534-0A56-4B32-A930-81C39ADA925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7C60A-8CC5-4CEF-B057-D2AECF7AE55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A3482-FE23-4E0E-9BB7-5030FEA0732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83E04-E4B9-46D9-9442-8EBF1BA2E1B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1840" y="941400"/>
              <a:ext cx="11070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560" y="2444760"/>
              <a:ext cx="189792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0680" y="4857480"/>
              <a:ext cx="292932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FA683-622E-419A-9538-14F81887BC6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6164A-B84B-40B1-959B-023D87AB2A8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6BFFC-E9C6-4D00-9961-2F781A47506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7474B-2F2C-44A2-8D66-7EEE9BA4642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486B1-46C6-4349-9081-30729C7D7D9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78DC0-D1D3-442C-BE63-CED9EBC6591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9D2CF-4F0D-4C4D-87EE-7806190EF15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545C2-6495-4DFB-8E04-D70FEACF157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222EE-245F-450A-AD00-8BEA7132559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96167-700B-4DB8-8B7A-9B6F5ABC4B8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EFA30-CA7F-47B3-8E6B-3B39A769310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EB6DE-2B17-46F9-925C-1C68ACE5AF0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CAFBD-10A0-405C-ADDE-ED6DEC31C41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77A3B-3024-4C29-85A6-D9E798F52A4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22894-86DF-4BDF-A2DB-F43ED6D3430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1A8B4-D7FA-46D1-B911-88FF73B6C72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BA252-4F9F-48B6-9159-5731EFCCE75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1F3F1-ECD9-48CA-8CED-1A4662BBFE7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091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Y FAVORITE 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VEHICL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609120" y="3571560"/>
            <a:ext cx="7753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Calibri"/>
              </a:rPr>
              <a:t>Presented by: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Calibri"/>
              </a:rPr>
              <a:t>Kelli A. Bates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1" name="TextBox 5"/>
          <p:cNvSpPr/>
          <p:nvPr/>
        </p:nvSpPr>
        <p:spPr>
          <a:xfrm rot="20859000">
            <a:off x="434520" y="27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m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6"/>
          <p:cNvSpPr/>
          <p:nvPr/>
        </p:nvSpPr>
        <p:spPr>
          <a:xfrm rot="708000">
            <a:off x="5790960" y="2760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7"/>
          <p:cNvSpPr/>
          <p:nvPr/>
        </p:nvSpPr>
        <p:spPr>
          <a:xfrm rot="20631600">
            <a:off x="423360" y="4970520"/>
            <a:ext cx="24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8"/>
          <p:cNvSpPr/>
          <p:nvPr/>
        </p:nvSpPr>
        <p:spPr>
          <a:xfrm rot="686400">
            <a:off x="6492960" y="48445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x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9"/>
          <p:cNvSpPr/>
          <p:nvPr/>
        </p:nvSpPr>
        <p:spPr>
          <a:xfrm>
            <a:off x="3340080" y="5419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0"/>
          <p:cNvSpPr/>
          <p:nvPr/>
        </p:nvSpPr>
        <p:spPr>
          <a:xfrm>
            <a:off x="3124080" y="253044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Toyota Camry XL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9" name="Picture 7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90720" y="2133720"/>
            <a:ext cx="7076880" cy="398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8220240" y="62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93714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Honda Accord EX V-6</a:t>
            </a:r>
            <a:br>
              <a:rPr sz="3800"/>
            </a:b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Volvo S8O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619760" cy="40640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Lexus L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609480" y="1995480"/>
            <a:ext cx="7810560" cy="4557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axima 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4600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BMW 535 i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619200" y="2362320"/>
            <a:ext cx="7764480" cy="3962160"/>
          </a:xfrm>
          <a:prstGeom prst="rect">
            <a:avLst/>
          </a:prstGeom>
          <a:ln w="0">
            <a:noFill/>
          </a:ln>
        </p:spPr>
      </p:pic>
      <p:pic>
        <p:nvPicPr>
          <p:cNvPr id="801" name="showroom_7_QT_480x360" descr=""/>
          <p:cNvPicPr/>
          <p:nvPr/>
        </p:nvPicPr>
        <p:blipFill>
          <a:blip r:embed="rId2"/>
          <a:stretch/>
        </p:blipFill>
        <p:spPr>
          <a:xfrm>
            <a:off x="619200" y="1905120"/>
            <a:ext cx="7764480" cy="4572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The End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tretch/>
        </p:blipFill>
        <p:spPr>
          <a:xfrm>
            <a:off x="495360" y="2057400"/>
            <a:ext cx="7962840" cy="4546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17:44Z</dcterms:created>
  <dc:creator>College of Education</dc:creator>
  <dc:description/>
  <dc:language>en-US</dc:language>
  <cp:lastModifiedBy>teacher</cp:lastModifiedBy>
  <dcterms:modified xsi:type="dcterms:W3CDTF">2009-07-29T14:40:25Z</dcterms:modified>
  <cp:revision>5</cp:revision>
  <dc:subject/>
  <dc:title>MY FAVORITE VEHICLES</dc:title>
</cp:coreProperties>
</file>